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25.png" ContentType="image/png"/>
  <Override PartName="/ppt/media/image2.gif" ContentType="image/gif"/>
  <Override PartName="/ppt/media/image28.jpeg" ContentType="image/jpeg"/>
  <Override PartName="/ppt/media/image20.png" ContentType="image/png"/>
  <Override PartName="/ppt/media/image10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38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6.png" ContentType="image/png"/>
  <Override PartName="/ppt/media/image36.png" ContentType="image/png"/>
  <Override PartName="/ppt/media/image15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0F1-B51D-45E3-A8A4-EC393908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557-5779-41A7-A2A4-2451B415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3F4-B068-458B-A73E-028BA0E7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658-84EF-418B-BD95-989C9264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D5D-F887-43BA-8CA2-00BDEF57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58F-D944-4B43-9874-E85573C4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84F-3C8E-4278-BD57-CEC217B7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A19A-D260-46DD-B4BC-206EFEA4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63EE-1118-4415-97AF-01085CF8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7F3-838A-42F8-BBE8-DAE6AA62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F0B-B5C4-4942-BEB0-3630B513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351-D639-4619-9B94-3AD9DA91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6318-8530-41C7-A1E0-EA65B8FB8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8.png"/><Relationship Id="rId4" Type="http://schemas.openxmlformats.org/officeDocument/2006/relationships/image" Target="../media/image3.jpe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24000" y="765000"/>
            <a:ext cx="871200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оветско-германски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отношения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в 1939-1941 гг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372360" y="5445000"/>
            <a:ext cx="25905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60280"/>
            <a:ext cx="9144000" cy="50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Мюнхенская конфере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280" y="863640"/>
            <a:ext cx="4724280" cy="251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45929" dir="19571123" blurRad="0" rotWithShape="0">
              <a:srgbClr val="000000"/>
            </a:outerShdw>
          </a:effectLst>
        </p:spPr>
      </p:pic>
      <p:sp>
        <p:nvSpPr>
          <p:cNvPr id="117" name=""/>
          <p:cNvSpPr/>
          <p:nvPr/>
        </p:nvSpPr>
        <p:spPr>
          <a:xfrm>
            <a:off x="5381640" y="1224000"/>
            <a:ext cx="3427560" cy="1455480"/>
          </a:xfrm>
          <a:prstGeom prst="roundRect">
            <a:avLst>
              <a:gd name="adj" fmla="val 16667"/>
            </a:avLst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мберлен и Даладье согласились с передачей Судетской области Герм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31640" y="3878280"/>
            <a:ext cx="2926080" cy="2606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63504" dir="19383909" blurRad="0" rotWithShape="0">
              <a:srgbClr val="000000"/>
            </a:outerShdw>
          </a:effectLst>
        </p:spPr>
      </p:pic>
      <p:sp>
        <p:nvSpPr>
          <p:cNvPr id="119" name=""/>
          <p:cNvSpPr/>
          <p:nvPr/>
        </p:nvSpPr>
        <p:spPr>
          <a:xfrm>
            <a:off x="3673440" y="3521160"/>
            <a:ext cx="5261040" cy="3027960"/>
          </a:xfrm>
          <a:prstGeom prst="roundRect">
            <a:avLst>
              <a:gd name="adj" fmla="val 10644"/>
            </a:avLst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лавный довод полит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Неужели нам действительно придется идти в окопы и носить противогазы из-за ссоры расположенной так далеко от нас страны, о которой мы на деле ничего не знаем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.Чемберлен за три дня до подписания Мюнхенского согла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9280" y="189000"/>
            <a:ext cx="866484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Раздел Чехословакии по Мюнхенскому соглаш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738036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</p:pic>
      <p:sp>
        <p:nvSpPr>
          <p:cNvPr id="125" name=""/>
          <p:cNvSpPr/>
          <p:nvPr/>
        </p:nvSpPr>
        <p:spPr>
          <a:xfrm>
            <a:off x="250920" y="4005360"/>
            <a:ext cx="431640" cy="431640"/>
          </a:xfrm>
          <a:prstGeom prst="rect">
            <a:avLst/>
          </a:prstGeom>
          <a:solidFill>
            <a:srgbClr val="b08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8360" y="2420640"/>
            <a:ext cx="934920" cy="1655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4437000"/>
            <a:ext cx="29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удетская область, передана Германии по Мюнхенскому соглашению 30 сентября 1938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5950080"/>
            <a:ext cx="8497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В расчленении Чехословакии принимали участие и соседние страны – Венгрия и Польша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92360" y="4365720"/>
            <a:ext cx="503280" cy="503280"/>
          </a:xfrm>
          <a:prstGeom prst="rect">
            <a:avLst/>
          </a:prstGeom>
          <a:solidFill>
            <a:srgbClr val="7e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780000" y="3933720"/>
            <a:ext cx="504720" cy="503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48000" y="458136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Чешская территория, переданная Венг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500720" y="2636640"/>
            <a:ext cx="1584000" cy="1871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0" y="4437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Чешская     территор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аннексирова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ольш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4437000"/>
            <a:ext cx="504720" cy="504720"/>
          </a:xfrm>
          <a:prstGeom prst="rect">
            <a:avLst/>
          </a:prstGeom>
          <a:solidFill>
            <a:srgbClr val="9249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00" y="189000"/>
            <a:ext cx="4127400" cy="66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«Я привез ми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842000" y="279360"/>
            <a:ext cx="4116240" cy="3751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63504" dir="19383909" blurRad="0" rotWithShape="0">
              <a:srgbClr val="000000"/>
            </a:outerShdw>
          </a:effectLst>
        </p:spPr>
      </p:pic>
      <p:sp>
        <p:nvSpPr>
          <p:cNvPr id="140" name=""/>
          <p:cNvSpPr/>
          <p:nvPr/>
        </p:nvSpPr>
        <p:spPr>
          <a:xfrm>
            <a:off x="431640" y="1133640"/>
            <a:ext cx="4230720" cy="2656440"/>
          </a:xfrm>
          <a:prstGeom prst="roundRect">
            <a:avLst>
              <a:gd name="adj" fmla="val 16667"/>
            </a:avLst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тлер дал Чемберлену и Даладье обещание, что после решения Судетской проблемы Германия больше не будет иметь территориальных претензий к Европ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920" y="4238640"/>
            <a:ext cx="8588160" cy="1677960"/>
          </a:xfrm>
          <a:prstGeom prst="roundRect">
            <a:avLst>
              <a:gd name="adj" fmla="val 12370"/>
            </a:avLst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 возвращения из Мюнхена на пресс-конференции Невилл Чемберлен произнес –  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«Я привез вам мир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считал, что уступка Гитлеру умерит его аппетит и в Европе наступит мир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6021360"/>
            <a:ext cx="6921360" cy="4597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Что же мир получил в действитель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8600" y="260280"/>
            <a:ext cx="85914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Результат и последствия  Мюнх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768240"/>
            <a:ext cx="8520120" cy="2373120"/>
          </a:xfrm>
          <a:prstGeom prst="roundRect">
            <a:avLst>
              <a:gd name="adj" fmla="val 10157"/>
            </a:avLst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ультатом этих территориальных уступок стала потеря Чехословакией 1/3 части своей территории с населением около 5 млн.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хословакия лишена приграничных укреплений, утратила 40% своего промышленного потенциала и, самое главное, ошеломлёна предательством своих союзников – Франции и Великобрита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41280" y="3473280"/>
            <a:ext cx="1935360" cy="312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45929" dir="19571123" blurRad="0" rotWithShape="0">
              <a:srgbClr val="000000"/>
            </a:outerShdw>
          </a:effectLst>
        </p:spPr>
      </p:pic>
      <p:sp>
        <p:nvSpPr>
          <p:cNvPr id="149" name=""/>
          <p:cNvSpPr/>
          <p:nvPr/>
        </p:nvSpPr>
        <p:spPr>
          <a:xfrm>
            <a:off x="2486160" y="3197160"/>
            <a:ext cx="6294240" cy="4158360"/>
          </a:xfrm>
          <a:prstGeom prst="roundRect">
            <a:avLst>
              <a:gd name="adj" fmla="val 11032"/>
            </a:avLst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Последствия Мюнхенской сдел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дение авторитета Англии и Фран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морализация Чехословакии (Англия и  Франция теряют сильного союзни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иление амбиций Герман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90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веренность Гитлера в своих силах и в слабости западных стр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90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ССР оказался в международной изоляции (договора о взаимопомощи СССР с Францией и Чехословакией утратили сил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90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757080" y="0"/>
            <a:ext cx="9901080" cy="6899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00000" y="0"/>
            <a:ext cx="77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2.Советско-германские отно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87640" y="620640"/>
            <a:ext cx="5905440" cy="6237360"/>
          </a:xfrm>
          <a:custGeom>
            <a:avLst/>
            <a:gdLst>
              <a:gd name="textAreaLeft" fmla="*/ 163440 w 5905440"/>
              <a:gd name="textAreaRight" fmla="*/ 5742000 w 5905440"/>
              <a:gd name="textAreaTop" fmla="*/ 163440 h 6237360"/>
              <a:gd name="textAreaBottom" fmla="*/ 6073920 h 6237360"/>
            </a:gdLst>
            <a:ahLst/>
            <a:rect l="textAreaLeft" t="textAreaTop" r="textAreaRight" b="textAreaBottom"/>
            <a:pathLst>
              <a:path w="21600" h="22814">
                <a:moveTo>
                  <a:pt x="2043" y="0"/>
                </a:moveTo>
                <a:arcTo wR="2043" hR="2043" stAng="16200000" swAng="-5400000"/>
                <a:lnTo>
                  <a:pt x="0" y="20771"/>
                </a:lnTo>
                <a:arcTo wR="2043" hR="2043" stAng="10800000" swAng="-5400000"/>
                <a:lnTo>
                  <a:pt x="19557" y="22814"/>
                </a:lnTo>
                <a:arcTo wR="2043" hR="2043" stAng="5400000" swAng="-5400000"/>
                <a:lnTo>
                  <a:pt x="21600" y="2043"/>
                </a:lnTo>
                <a:arcTo wR="2043" hR="2043" stAng="0" swAng="-5400000"/>
                <a:close/>
              </a:path>
            </a:pathLst>
          </a:cu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23 августа 1939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Советским Союзом и Германией заключен пакт о ненападении сроком на 1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 дополнение к пакту был подписан секретный протоко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 разграничении сфер Влияния в Восточной Европ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адная Украина и Западная Белоруссия, Финляндия, Бессарабия (Молдавия), входившая в состав Румынии, признавались сферами интересов ССС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 о целесообразности сохранения Польского государства предстояло решить позд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244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292560" cy="4048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284760" y="5516640"/>
            <a:ext cx="31464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Английская карик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на Гитлера и Ста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08360" y="981000"/>
            <a:ext cx="5435640" cy="5877000"/>
          </a:xfrm>
          <a:prstGeom prst="rect">
            <a:avLst/>
          </a:prstGeom>
          <a:solidFill>
            <a:srgbClr val="cc99ff">
              <a:alpha val="24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1 сентября 1939 г. Германия напала на Польшу и 16 сентября немцы заняли Варшаву. На следующий день советские войска вступили в польские земли и возвратили земли Западной Украины и Западной Белору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28 сентября, после окончательной капитуляции Польши, СССР и Германия подписали Договор о дружбе и границе. Германия фактически признала за СССР Финляндию и Прибал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50760" y="208080"/>
            <a:ext cx="750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93840"/>
            <a:ext cx="71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Начало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II </a:t>
            </a: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Мировой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50760" y="281160"/>
            <a:ext cx="707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3640" y="4046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3.Советско-финская вой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208320" cy="4986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24360" y="2060640"/>
            <a:ext cx="4897440" cy="4635360"/>
          </a:xfrm>
          <a:prstGeom prst="rect">
            <a:avLst/>
          </a:prstGeom>
          <a:solidFill>
            <a:srgbClr val="cc99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Финны  не желали уступать территорию на Карельском перешейке и в Финском</a:t>
            </a:r>
            <a:br>
              <a:rPr sz="2800"/>
            </a:b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заливе  и заключать </a:t>
            </a:r>
            <a:br>
              <a:rPr sz="2800"/>
            </a:b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пакт о ненападении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СССР неудовлетворен </a:t>
            </a:r>
            <a:br>
              <a:rPr sz="2800"/>
            </a:b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безопасностью границ </a:t>
            </a:r>
            <a:br>
              <a:rPr sz="2800"/>
            </a:b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со стороны Финляндии и</a:t>
            </a:r>
            <a:br>
              <a:rPr sz="2800"/>
            </a:b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Финского зал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35480" y="1073160"/>
            <a:ext cx="41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Причины вой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339200" y="260280"/>
            <a:ext cx="72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Вооруженные силы СССР и Финлян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85800" y="1981080"/>
          <a:ext cx="7772400" cy="43736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ССС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73 млн.че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,5 млн.че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Численность войс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96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4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Та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9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Арт. оруд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12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коло 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Самолё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2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коло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Агитация против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" y="1413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Советского Союза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               Финлян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2001960" cy="2881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286000" y="2590920"/>
            <a:ext cx="2311560" cy="2916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572000" y="2590920"/>
            <a:ext cx="2243160" cy="2916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6705720" y="2590920"/>
            <a:ext cx="2168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Оборонительная система линии Маннергей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581280" y="2819520"/>
            <a:ext cx="5146920" cy="3489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24000" y="1268280"/>
            <a:ext cx="4849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Протяженность 140 км., озёра, болота, реки, 210 дотов, 546 дзотов. Армия 100 тыс.,460 орудий, 200 самолетов, 25 та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Лесные завалы,</a:t>
            </a:r>
            <a:br>
              <a:rPr sz="2400"/>
            </a:b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минные пол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45 рядов прово-</a:t>
            </a:r>
            <a:br>
              <a:rPr sz="2400"/>
            </a:b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лочных загражде-</a:t>
            </a:r>
            <a:br>
              <a:rPr sz="2400"/>
            </a:b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Бето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противотанковые</a:t>
            </a:r>
            <a:br>
              <a:rPr sz="2400"/>
            </a:b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соору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582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83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84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Monotype Corsiva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1143000" cy="906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03640" y="981000"/>
            <a:ext cx="5940360" cy="525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.Международ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положение в начале 1939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2.Советско-германские отнош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3.Советско-финская вой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4.СССР и Прибалт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547640" y="40464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Главные действующие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95280" y="2022480"/>
            <a:ext cx="2119320" cy="1838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340000" y="3213000"/>
            <a:ext cx="2214360" cy="1944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24000" y="4797360"/>
            <a:ext cx="2133360" cy="1857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4572000" y="3213000"/>
            <a:ext cx="1836720" cy="1944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6400800" y="1628640"/>
            <a:ext cx="2419200" cy="1928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6400800" y="4495680"/>
            <a:ext cx="23479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348000" y="1773360"/>
            <a:ext cx="5616720" cy="4249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3132000" y="47628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Прорыв линии Маннергей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32004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34" dur="3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635" dur="3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636" dur="3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257120" y="189000"/>
            <a:ext cx="693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Итоги войны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Мирный договор 12 марта 194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725560" y="1916280"/>
            <a:ext cx="3692880" cy="3025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24000" y="1557360"/>
            <a:ext cx="23763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СС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Приобрёл территорию Потерял убитыми </a:t>
            </a:r>
            <a:br>
              <a:rPr sz="2400"/>
            </a:b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30 тыс.  Потерял ранеными </a:t>
            </a:r>
            <a:br>
              <a:rPr sz="2400"/>
            </a:b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76 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32720" y="1700280"/>
            <a:ext cx="208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Финля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Потеряла терри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Потеряла убитыми 23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Потеряла ранеными </a:t>
            </a:r>
            <a:br>
              <a:rPr sz="2400"/>
            </a:b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4 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6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66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66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78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679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680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94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695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696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98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699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700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050920" y="404640"/>
            <a:ext cx="5545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4.СССР и Прибал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995640" y="1197000"/>
            <a:ext cx="4680000" cy="2867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20" name=""/>
          <p:cNvSpPr/>
          <p:nvPr/>
        </p:nvSpPr>
        <p:spPr>
          <a:xfrm>
            <a:off x="1728360" y="1341360"/>
            <a:ext cx="1797840" cy="1313640"/>
          </a:xfrm>
          <a:prstGeom prst="rect">
            <a:avLst/>
          </a:prstGeom>
          <a:solidFill>
            <a:srgbClr val="ffccff">
              <a:alpha val="28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Подпис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Советско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литов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дого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19080" y="4292640"/>
            <a:ext cx="183261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После разгрома Польши СССР заключил договоры о «взаимной помощ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с прибалтийскими странами. Они предполагали размещение в Прибалт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военно-морских и военно-воздушных баз Красной Армии. Это созда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условия для прихода к власти коммунистов. В июне 1940 г. Советский Сою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потребовал назначения новых правительств с участием коммун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Это требование вскоре было выполне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711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712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713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73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73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4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74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74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3311640" cy="5040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324000" y="567072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Расширение советской территории накануне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476280"/>
            <a:ext cx="4825800" cy="6311880"/>
          </a:xfrm>
          <a:prstGeom prst="rect">
            <a:avLst/>
          </a:prstGeom>
          <a:solidFill>
            <a:srgbClr val="cc99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«Народные правительства» Эстонии, Латвии и Литвы обратились к Советскому Союзу с просьбой о вхождении в состав СССР на правах  союзных республик. В октябре 1940 г. Верховый Совет СССР принял соответствующее решение. В июне 1940 года после советского ультиматума Румыния возвратила Бессарабию и Сев.Буковину, отторгнутые в 1920 г.Таким образом западные границы СССР были отодвинуты на 200-60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61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762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763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75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776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777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411720" cy="5119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4140360" y="260280"/>
            <a:ext cx="4535280" cy="5986440"/>
          </a:xfrm>
          <a:prstGeom prst="rect">
            <a:avLst/>
          </a:prstGeom>
          <a:solidFill>
            <a:srgbClr val="cc99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К осени 1940 г. договоренности между СССР и Германией  о разделе «сфер влияния» были реализованы. К этому времени Гитлер покорил ряд европейских стран и у нее остался один противник Англия. В ноябре 1940 г. Молотову в Берлине поступило предложение о присоединении СССР к Тройственному союзу и отдать в сферу влияния СССР Иран.. Советское правительство потребовало отнесения к сфере интересов СССР Болгарии и черноморских проливов, что не устроило Германию и 18 декабря 1940 г. Гитлер одобрил план войны против СССР- «Барбаросса»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37440" y="5877000"/>
            <a:ext cx="22366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апка с пла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«Барбаросс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3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3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05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806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807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Monotype Corsiva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1143000" cy="906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1640" y="981000"/>
            <a:ext cx="8172360" cy="525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6600"/>
                </a:solidFill>
                <a:latin typeface="Times New Roman"/>
              </a:rPr>
              <a:t>Охарактреизуйте состояние советско-германских отношений накануне Второй мировой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79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8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105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106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260280"/>
            <a:ext cx="8591400" cy="50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Политика умиротворения стран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765000"/>
            <a:ext cx="8505720" cy="971640"/>
          </a:xfrm>
          <a:prstGeom prst="flowChartProcess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Политика умиротвор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литика попустительства Англии и Франции по отношению к агрессивным шагам фашистской Германии во второй половине 30-х годов ХХ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700280"/>
            <a:ext cx="86421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 Narrow"/>
              </a:rPr>
              <a:t>Имена европейских политиков, ассоциирующиеся с политикой умиротвор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2708280"/>
            <a:ext cx="7145280" cy="106956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м из наиболее последовательных сторонников политики умиротворения был Невил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берлен - премьер-министр Великобрита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37-1940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821640" y="3699000"/>
            <a:ext cx="1828800" cy="2735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42000" y="633888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Невилл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Чембер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85920" y="3924360"/>
            <a:ext cx="4032360" cy="222840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анция была вынуждена следовать за Великобританией из-за страха остаться без союзника в противостоянии с Германией. Эдуард Даладье – премьер-министр Франции с апреля 1938 года по март 194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50920" y="3699000"/>
            <a:ext cx="1904760" cy="26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50920" y="633888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Эдуард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Далад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0" y="3294000"/>
            <a:ext cx="836640" cy="55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8217000" y="3338640"/>
            <a:ext cx="927000" cy="55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5840" y="219240"/>
            <a:ext cx="8593200" cy="108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Результат политики умиротвор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к 1938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33600" y="1916280"/>
            <a:ext cx="7610400" cy="3777120"/>
          </a:xfrm>
          <a:prstGeom prst="roundRect">
            <a:avLst>
              <a:gd name="adj" fmla="val 11426"/>
            </a:avLst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1938 году Германия добились отмены практически всех ограничений, установленных Версальским догово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сравнению с 1933 годом численность германских вооружённых сил к 1938 году выросла в 25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1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лагодаря Англо-германскому военно-морскому соглашению, у Германии появился достаточно мощный флот, включая подвод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10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мания имеет боевую авиацию, а сухопутные части оснащаются бронетехникой. Они станут основой для будущего блицкрига Германи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9280" y="189000"/>
            <a:ext cx="7772400" cy="620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Чехословакия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41280" y="819000"/>
            <a:ext cx="5356080" cy="35420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40186" dir="17296359" blurRad="0" rotWithShape="0">
              <a:srgbClr val="000000"/>
            </a:outerShdw>
          </a:effectLst>
        </p:spPr>
      </p:pic>
      <p:sp>
        <p:nvSpPr>
          <p:cNvPr id="84" name=""/>
          <p:cNvSpPr/>
          <p:nvPr/>
        </p:nvSpPr>
        <p:spPr>
          <a:xfrm>
            <a:off x="252360" y="4556160"/>
            <a:ext cx="5891400" cy="2075400"/>
          </a:xfrm>
          <a:prstGeom prst="roundRect">
            <a:avLst>
              <a:gd name="adj" fmla="val 12509"/>
            </a:avLst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о, родившееся после Первой мировой войны в результате распада Австро-венгерской империи.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кономическом отношении – одно из наиболее развитых государств в Восточной Евро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728640"/>
            <a:ext cx="2971800" cy="2131560"/>
          </a:xfrm>
          <a:prstGeom prst="roundRect">
            <a:avLst>
              <a:gd name="adj" fmla="val 16667"/>
            </a:avLst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а правления – парламентская республика. Президентом с 1935 года был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Эдуард Бене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372360" y="3203640"/>
            <a:ext cx="24746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457200"/>
            <a:ext cx="8736120" cy="30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Почва для криз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6280" y="773280"/>
            <a:ext cx="8686800" cy="2385720"/>
          </a:xfrm>
          <a:prstGeom prst="roundRect">
            <a:avLst>
              <a:gd name="adj" fmla="val 16667"/>
            </a:avLst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7480" indent="174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территории Чехословакии проживали большие общины национальных меньшин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1746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смотря на демократическую форму правления (Чехословакия была единственной страной в Восточной Европе, где в 1930-х годах сохранился демократический строй), решить национальные противоречия не удалось. Меньшинства не чувствовали себя равноправными с господствующей чешской на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49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Национальный состав населения Чехословакии в 1930-х год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962000" y="4005360"/>
          <a:ext cx="5465880" cy="2950920"/>
        </p:xfrm>
        <a:graphic>
          <a:graphicData uri="http://schemas.openxmlformats.org/drawingml/2006/table">
            <a:tbl>
              <a:tblPr/>
              <a:tblGrid>
                <a:gridCol w="3673800"/>
                <a:gridCol w="1792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циона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х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00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г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ины</a:t>
                      </a: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инцы, белорусы</a:t>
                      </a: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7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368280"/>
            <a:ext cx="8915400" cy="52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Судетский кризи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6280" y="1133640"/>
            <a:ext cx="8686800" cy="4816440"/>
          </a:xfrm>
          <a:prstGeom prst="roundRect">
            <a:avLst>
              <a:gd name="adj" fmla="val 9458"/>
            </a:avLst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Судетская обла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сть Чехословакии, граничащая с Германией и населенная преимущественно нем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38 г.  август – сентябрь Судетский кризис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ермания заявляет о притеснении и нарушении прав судетских немцев и начинает нагнетать обстанов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тлер опирается на судетско-немецкую партию во главе с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Конрадом Гейнлейном.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– отторжение этой области от Чехословакии и присоединение её к Германии, а в последующем – уничтожение оставшегося чехословацкого государ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260280"/>
            <a:ext cx="9144000" cy="50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Мюнхенская конфере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770040"/>
            <a:ext cx="8736120" cy="1455480"/>
          </a:xfrm>
          <a:prstGeom prst="roundRect">
            <a:avLst>
              <a:gd name="adj" fmla="val 16667"/>
            </a:avLst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29-30 сентября 1938 года в Мюнхен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состоялась конференция, в которой приняли участие лидеры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Великобритании, Франции,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Германии и Итали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На конференции без участия Чехословакии решалась ее судь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308640"/>
            <a:ext cx="50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Участники переговоров в Мюнхе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>
            <a:lum bright="8000"/>
          </a:blip>
          <a:stretch/>
        </p:blipFill>
        <p:spPr>
          <a:xfrm>
            <a:off x="341280" y="2438280"/>
            <a:ext cx="4427640" cy="3921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</p:pic>
      <p:sp>
        <p:nvSpPr>
          <p:cNvPr id="106" name=""/>
          <p:cNvSpPr/>
          <p:nvPr/>
        </p:nvSpPr>
        <p:spPr>
          <a:xfrm>
            <a:off x="0" y="551664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Н.Чембер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2637000"/>
            <a:ext cx="19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Б.Муссол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460692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А.Гит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32764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Э.Далад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932360" y="2421000"/>
            <a:ext cx="4032360" cy="3241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45929" dir="19571123" blurRad="0" rotWithShape="0">
              <a:srgbClr val="000000"/>
            </a:outerShdw>
          </a:effectLst>
        </p:spPr>
      </p:pic>
      <p:sp>
        <p:nvSpPr>
          <p:cNvPr id="111" name=""/>
          <p:cNvSpPr/>
          <p:nvPr/>
        </p:nvSpPr>
        <p:spPr>
          <a:xfrm>
            <a:off x="4932360" y="57340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мецкие памятные почтовые марки по случаю соглашения в Мюнхе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15:36:39Z</dcterms:created>
  <dc:creator>1</dc:creator>
  <dc:description/>
  <dc:language>en-US</dc:language>
  <cp:lastModifiedBy>Гудаков И.В.</cp:lastModifiedBy>
  <dcterms:modified xsi:type="dcterms:W3CDTF">2007-02-24T14:41:42Z</dcterms:modified>
  <cp:revision>8</cp:revision>
  <dc:subject/>
  <dc:title>Слайд 1</dc:title>
</cp:coreProperties>
</file>