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518-DAC4-421F-8428-7F09C923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6D9-018F-47CB-BAA1-86FB9BBB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113-AFB1-49F6-81C8-9139E072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3C2-2038-4973-95B9-A9B3BB32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89F-3770-479C-B2EC-EA8F2BDA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264-3C9B-48DE-B119-39D9CD8F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E0B-984B-4CA8-9E26-1C4A545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94F-0269-435B-B186-AE24E5A9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6A3-E0A9-4A24-93F1-DD437C74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BC1-E425-4029-856F-979AEBAD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1A3-EBC7-4599-9E07-FA50D5D7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592-CD23-45FA-A196-DDA2790D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BB1C-BFB6-459A-90F7-412C5ED3F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4000" y="765000"/>
            <a:ext cx="871200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ССР и его союзники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 решающих битвах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торой мировой войн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372360" y="5445000"/>
            <a:ext cx="25905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  <a:ea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952960" y="2125800"/>
            <a:ext cx="1428840" cy="1133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32000" y="189000"/>
            <a:ext cx="6985080" cy="71892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Monotype Corsiva"/>
                <a:ea typeface="Arial"/>
              </a:rPr>
              <a:t>2. Кур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1341360"/>
            <a:ext cx="4464000" cy="489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К 1943г. Германское командование, пользуясь отсутствием второго фронта, сосредоточило на Восточном фронте 196 дивизий. Расчет делался на то. что новые танки «Тигр» и «Пантера», не уступающие советским Т-34 и КВ, позволят прорвать фронт советских войск в районе Орла и Курска и вновь нанести удар в направлении на Мос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3681360" cy="4537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900000" y="5805360"/>
            <a:ext cx="280836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Битва на Курской д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38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0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0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416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17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18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260280"/>
            <a:ext cx="8066160" cy="825480"/>
          </a:xfrm>
          <a:prstGeom prst="rect">
            <a:avLst/>
          </a:prstGeom>
          <a:gradFill rotWithShape="0">
            <a:gsLst>
              <a:gs pos="0">
                <a:srgbClr val="990099">
                  <a:alpha val="46274"/>
                </a:srgbClr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оотношение сил СССР и Германии на Орловско-Курском направлении в начале июля 194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58920" y="1600200"/>
          <a:ext cx="7427880" cy="4525920"/>
        </p:xfrm>
        <a:graphic>
          <a:graphicData uri="http://schemas.openxmlformats.org/drawingml/2006/table">
            <a:tbl>
              <a:tblPr/>
              <a:tblGrid>
                <a:gridCol w="2592360"/>
                <a:gridCol w="2305080"/>
                <a:gridCol w="2530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Силы 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Советские вой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Германские вой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Лю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33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9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Орудия и мином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9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Танки и СА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4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7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Самол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43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43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375000" cy="540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08360" y="260280"/>
            <a:ext cx="5256360" cy="6193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В результате гигантской работы советское командование к началу немецкого наступления смогло сосредоточить в районе Курска войска и материальные средства, впервые с начала войны обеспечивающие превосходство сил и средств над противником.</a:t>
            </a:r>
            <a:br>
              <a:rPr sz="2200"/>
            </a:b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Советскому командованию было известно также, что немецкое наступление начнется 5 июля в 3 часа утра из Белгорода и Орла. Но сражение с самого начала пошло не по сценарию германского вермахта. На рассвете 5 июля в 2 часа 20 минут. неожиданно для немецкой стороны на районы сосредоточения их ударных группировок обрушился огонь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двух советских фро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469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70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71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6443640" cy="322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Немецкое наступление началось позже намеченного срока - 5 июля в 5 часов 30 минут. Армада немецкой военной техники двинулась на советские позиции, но уже с первых часов сражения стало ясно, что эти "тигры", "пантеры", "фердинанды" буквально расшибаются об оборону советских войск. После 5-6 дней ожесточеннейших сражений гитлеровцам удалось на некоторых участках вклиниться в советскую оборону на глубину 8-10 км, но немецкое наступление захлебывалось. Тогда командующий группой армий "Юг" генерал-фельдмаршал Э. фон Манштейн, решил совершить прорыв танками в районе деревни Прохоровка. 12 июля у Прохоровки произошло самое крупное танковое сражение в мировой истории: с обеих сторон в нем принимало участие 1200 танков. Войска 5-й гвардейской танковой армии генерала П.А. Ротмистрова и 5-й гвардейской армии генерала А.С. Жадова лоб в лоб схлестнулись со 2-м танковым корпусом </a:t>
            </a: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СС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. Ожесточенное сражение длилось весь день, к вечеру танковые экипажи вместе с пехотой дрались врукопашную.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493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94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495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2997360"/>
            <a:ext cx="8496360" cy="3860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Во время Курского сражения советские воины проявили массовый героизм, который становился нормой. Оборонительные сражения на Центральном фронте были завершены 12 июля, на Воронежском фронте - 23 июля. Фашисты начали отвод своих войск. План операции "Цитадель" провалился. Навязать свою волю Красной Армии противник не сумел.</a:t>
            </a:r>
            <a:br>
              <a:rPr sz="2000"/>
            </a:b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     12 июля началось наступление советских войск на орловском направлении силами Центрального, Брянского и Юго-Западного фронтов, 3 августа - войск Воронежского и Степного фронтов на белгородско-харьковском направлении. 5 августа 1943 г., ровно через месяц после немецкого наступления, Красная Армия освободила города Орел и Белгород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464000" cy="2521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364000" y="981000"/>
            <a:ext cx="280836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амолет А.Покрыш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17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18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19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33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34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35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189000"/>
            <a:ext cx="7848720" cy="1224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Monotype Corsiva"/>
                <a:ea typeface="Arial"/>
              </a:rPr>
              <a:t>3. Освобождение Советской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Monotype Corsiva"/>
                <a:ea typeface="Arial"/>
              </a:rPr>
              <a:t>и открытие второго фрон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95640" cy="4105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4000" y="6093000"/>
            <a:ext cx="2808000" cy="531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Бои за Смоле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1557360"/>
            <a:ext cx="5329440" cy="511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Ослабленные силы вермахта не смогли противостоять натиску Красной Армии. После освобождения Орла и Белгорода, изгнав оккупантов из Харькова, Красная Армия устремилась на запад. Планы Гитлера остановить ее на рубеже Днепра не оправдались. Захватив в сентябре 1943г. Плацдармы на правом берегу Днепра, советские войска в ноябре 1943 г. взяли Киев. Еще раньше были освобождены Новороссийск и Таманский полуостров. Красная Армия заняв Смоленск, вышла к границам Белору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61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65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6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8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8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99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00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01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3500280"/>
            <a:ext cx="8785440" cy="3357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События на фронтах летом 1943г. показали, что Красная Армия может и собственными силами сломить военную машину Германии. Это побудило союзников к поиску более тесных форм сотрудничества с СССР. В конце 1943 г. в Тегеране состоялась встреча Сталина, Рузвельта и Черчилля. На ней была достигнута договоренность об открытии в мае 1944 г. второго фронта в Европе. СССР дал согласие после раз грома Германии вступить в войну против Японии. Стороны выработали принципы создания Организации Объединенных Наций. Эти решения предопределили поражение фашистского бл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464000" cy="295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64000" y="1052640"/>
            <a:ext cx="2808360" cy="10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Сталин, Рузвельт, Черчилль в Теге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2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39" dur="3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40" dur="3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41" dur="3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7921440" cy="208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2050920" y="2492280"/>
            <a:ext cx="4248360" cy="863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Соотношение сил СССР и Германии в начале 194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3429000"/>
            <a:ext cx="8534160" cy="32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В начале 1944 г. Германия уже не имела перевеса ни на одном из участков Восточного фронта. Немецкая армия перешла к стратегической обороне. СССР имел на фронте 6,3 млн солдат – немцы - 5 млн. Красная Армия имела преимущество по самолетам-10,2тыс против 3 тыс., орудиям и минометам-96 тыс. против 54,6 тыс.По танкам и САУ силы были равны-5,3 тыс. против 5,4 тыс.исходя из этого соотношения Ставка приказала обеспечить в 1944 г. окончательный разгром фашистской Германии и освобождение территории ССС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5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79" dur="3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80" dur="3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681" dur="3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381480" cy="417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611280" y="5013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6 марта 1944г. Граница с Румын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404640"/>
            <a:ext cx="5040360" cy="5688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 январе 1944 г. была снята блокада Ленинграда, в мае в результате наступления на Украине советские войска вышли к Государственной границе. 6 июня 1944 г. союзники открыли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фронт в Нормандии. 10 июня, чтобы не дать немцам перебросить силы на Запад, советское командование начало атаку на «линию Маннергейма». Вскоре Финляндия капитулировала. 23 июня началась операция «Багратион» в Белоруссии. 30 дивизий врага попали в окруже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0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0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19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20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21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355920" cy="496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468360" y="5589720"/>
            <a:ext cx="2808360" cy="10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«10 сталинских уда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89000"/>
            <a:ext cx="5113440" cy="666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Были освобождены Белоруссия, часть Литвы и восточная Польша. Группа немецких армий «Север» в Прибалтике была рассечена надвое. В июле подо Львовом  8 немецких дивизий попали в окружение, а в город вошли советские войска. В августе под Кишиневом  были окружены 22 дивизии и Красная армия вступила на территорию Румынии. к концу октября 1944 г. территория СССР была полностью освобождена.     С разгромом основных сил групп армий «Юг» и «Центр» на Восточном фронте, успешной высадкой союзников во Франции шансы Германии на благополучное для нее завершение войны свелись к ну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4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4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59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60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761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 Black"/>
                <a:ea typeface="Arial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428840" cy="113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03280" y="126828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37400" indent="-437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1.Создание и укрепление антифашисткой коали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2. Курская бит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3. Освобождение Советской земли и открытие  второго фрон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2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 Black"/>
                <a:ea typeface="Arial"/>
              </a:rPr>
              <a:t>Задание на 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42884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03280" y="126828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   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Какую роль сыграла антигитлеровская коалиция в достижении коренного перелома в ходе Второй мировой войн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83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189000"/>
            <a:ext cx="7777440" cy="115236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66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Monotype Corsiva"/>
                <a:ea typeface="Arial"/>
              </a:rPr>
              <a:t>Создание и укреплени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Monotype Corsiva"/>
                <a:ea typeface="Arial"/>
              </a:rPr>
              <a:t>антифашисткой коали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433520"/>
            <a:ext cx="6227640" cy="394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55960" y="5516640"/>
            <a:ext cx="2177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ше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 июня 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3357720"/>
            <a:ext cx="4716360" cy="3500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2 июня 1941 года Германия вероломно напала на СССР. С начала нападения Германии на СССР встал вопрос об объединении усилий различных государств для борьбы против фашизма. В поддержку Советского Союза выступили США и Англи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60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61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62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2951280" cy="475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76000" y="5589720"/>
            <a:ext cx="26755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талин и Г.Хопки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а переговор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 ленд-ли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1052640"/>
            <a:ext cx="4861080" cy="4824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Летом 1941 г.Англия и США заявили о своей поддержке Советского Союза. В июле 1941 г. СССР и Великобритания подписали соглашение о совместных действиях, а в августе США объявили об оказании нашей стране экономической и военно-технической помощи. В сентябре к этому соглашению присоединилась Англия. 01 января 1942 г. была образована анти-гитлеровская коалиция из 26 госуд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96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97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98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4763880" cy="532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7280" y="5445000"/>
            <a:ext cx="237672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Нападение японцев     на Перл-Хар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2033640"/>
            <a:ext cx="5076720" cy="4824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Также причинами ускорения формирования антигитлеровской коалиции стали победа Красной Армии под Москвой, которая заставила Японию отказаться от вступления в войну против СССР. Кроме того, 07.12.41 японцы атаковали военно-морскую базу США Перл-Харбор на Гавайях. В ответ Ф.Рузвельт объявил войну Японии и ее союзникам - Германии и И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2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2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36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7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8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176720" cy="4465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187280" y="5445000"/>
            <a:ext cx="237672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сновные направления Ленд-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476280"/>
            <a:ext cx="4716360" cy="6381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Создав коалицию, СССР, США, Англия, стремились координировать свои действия. Советская страна нуждалась в помощи западных держав в виде оружия, продовольствия, промышленных товаров. С ноября 1941 года СССР начал получать военно-экономическую помощь от союзников. К 30 июня 1942г. В СССР из США и Англии поступило 3296 самолетов, 4697 танков и другая техника. Эти поставки сыграли важную роль в борьбе с фашистскими захватч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6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6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76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7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78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3876840" cy="4535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116000" y="5373720"/>
            <a:ext cx="280836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«Отомсти за     Перл-Харбор!» Плакат 194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476280"/>
            <a:ext cx="4392360" cy="6121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равительство Советского Союза добивалось того, чтобы США и Великобритания начали вести боевые действия против Германии и ее союзников, т.е. речь шла об открытии второго фронта в Европе. Но в это время Япония продолжая боевые действия против США захватила Филлипины, Индонезию, часть Индокитая и Сингапур. Японский флот попытался высадить десант в Австралии но оказался в ловушке и понеся потери вынужден был отойти. Окончательно прелом в войне на Тихом океане и в ЮВА произошел летом 1942 г. когда у атолла Мидуэй японский флот был разбит американ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0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0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20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21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22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682800" cy="4321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116000" y="5373720"/>
            <a:ext cx="280836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Э.Роммель в Ливийской пусты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333360"/>
            <a:ext cx="4753080" cy="6264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60093">
                  <a:alpha val="46274"/>
                </a:srgbClr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В 1942 г. Германия и Румыния попытались прорваться к Грозному и Баку и получить доступ к нефти, а также перерезать транспортные пути по Волге. Под Сталинградом немцы 4 месяца атаковали позиции Красной армии но успеха не достигли. 19.11.42 советские войска перешли в наступление и окружили 330000-ю немецкую группировку. Все попытки освободить ее закончились провалом и 02.02.1943 г. немцы во главе с фельдмаршалом Паулюсом капитулировали.          В это же время  в Северной Африке генерал Монтгомери разбил танковую армию Э.Роммеля. В Атлантике немцы также потерпели ряд сокрушительных поражений и Германия оказалась в тяжелом по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4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60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61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362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8:54:06Z</dcterms:created>
  <dc:creator>Гудаков И.В.</dc:creator>
  <dc:description/>
  <dc:language>en-US</dc:language>
  <cp:lastModifiedBy>Гудаков И.В.</cp:lastModifiedBy>
  <dcterms:modified xsi:type="dcterms:W3CDTF">2007-02-25T20:44:51Z</dcterms:modified>
  <cp:revision>5</cp:revision>
  <dc:subject/>
  <dc:title>Слайд 1</dc:title>
</cp:coreProperties>
</file>