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gif" ContentType="image/gif"/>
  <Override PartName="/ppt/media/image8.wmf" ContentType="image/x-wmf"/>
  <Override PartName="/ppt/media/image6.png" ContentType="image/png"/>
  <Override PartName="/ppt/media/image10.wmf" ContentType="image/x-wmf"/>
  <Override PartName="/ppt/media/image7.gif" ContentType="image/gi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A40-27C3-4AF0-8B1F-A2292228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008-6782-48D6-BDF5-C888BEE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E9F-EE6C-4AD6-A745-B439B5EC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3E2-9F34-45E9-97FC-35461C72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73A-19A0-49D2-BBD1-4647DBAC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B24-7F46-4E16-8239-048044F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2AC-5015-4177-9CD6-0ECDD582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65B-3C07-4F71-B9F7-CC625686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124-905A-4147-9573-B83620E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B85-BEEC-4C90-9B9E-546A78F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307-4A1D-4BA5-B4B1-A6E89AEB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60B-499B-4A52-B18F-DC4A3029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85FF-F9D7-41D0-9C11-A8C8CEEA96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е бюджетное образователь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№ 2 им. А.С.Пушкин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одительское собрание в 3 «Б»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«Дети и деньг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вто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елавина О.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F06F-F7C8-4206-8E1F-66F5734EAD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818C-08C0-4F21-8488-5C07BC0280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1428840" y="180360"/>
            <a:ext cx="7715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2. Я хочу, что бы мой ребенок ничем не отличался от сверстников. Если ее одноклассница ходит в новом дорогом платье, я в лепешку расшибусь, но куплю такое же.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язательно – 3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умаю, могу ли себе позволить такую покупку – 2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ойдётся –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AD9B-8BB2-41A9-A2A3-3FCBF41E9A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1357200" y="25920"/>
            <a:ext cx="77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3. Дочь однажды заявляет маме: «Себе ты купила босоножки за две тысячи, а мне всего за 500 рублей!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ечно, мама не права – 3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сли мама хочет, она может покупать себе любимые вещи главное, что бы семья тоже не страдала – 2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ая негодяйка, да как она смеет так говорить?–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FFA8-3D6F-4659-9502-483F8AB30F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1428840" y="457560"/>
            <a:ext cx="77151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4. Сын возмущается, что родители купили новый холодильник, а он по–прежнему обходится без компьютера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и – жадюги. Мальчику нужно играться столько, сколько он захочет – 3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семье нужен большой холодильник, то парень должен это понять—2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кай идет разгружать вагоны и покупает себе хоть «Мерседес» –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5129-DDA2-434E-AA92-5B23045A05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1500120" y="59796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5. Карманные деньги детям необходим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гда – 3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сли они не могут зарабатывать сами – 2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ойдутся! Все, что им нужно, купят родители. С голоду не помрут! –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44D5-1711-42E2-8AFD-F7C920D2DB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1500120" y="597960"/>
            <a:ext cx="71438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6. Я трачу на ребенка столько, сколько могу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гда – 3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 балую, в день рождения и на Новый год подарки получает, а в другое время – пусть заслужит – 2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ыт, обут, одет. Остальное – мелочи –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46D8-740F-4B45-A855-1F254480F0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19280" y="437400"/>
            <a:ext cx="720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бенок не должен тратить подаренные деньги как попало. Договоритесь, что он выдвигает предложение, а решение принимаете вместе на семейном совет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56144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Даете ли вы 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своим детям 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карманные деньги? </a:t>
            </a: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Необходимо ли это?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j0282993"/>
          <p:cNvPicPr/>
          <p:nvPr/>
        </p:nvPicPr>
        <p:blipFill>
          <a:blip r:embed="rId2"/>
          <a:stretch/>
        </p:blipFill>
        <p:spPr>
          <a:xfrm>
            <a:off x="3995640" y="285264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6913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рманные деньги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15640" y="1341360"/>
            <a:ext cx="748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причина, по которой стоит давать детям деньги состоит в том, что ребенок должен научиться обращаться с деньг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, чтобы купить что-то значимое, ребенку приходится ждать, откладывать деньги. Это приучает его к терпению, а также к планированию своих расхо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едко в семье бывает так мало свободных денег, что карманные деньги для школьника кажутся расточительством. В таких случаях давать ребенку совсем небольшую, символическую сумму лучше, чем не давать ниче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екоторых семьях обходятся без карманных денег в виде регулярных выплат. Детям просто дают деньги, когда они об этом прося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j0280517"/>
          <p:cNvPicPr/>
          <p:nvPr/>
        </p:nvPicPr>
        <p:blipFill>
          <a:blip r:embed="rId2"/>
          <a:stretch/>
        </p:blipFill>
        <p:spPr>
          <a:xfrm>
            <a:off x="7920000" y="5654520"/>
            <a:ext cx="1224000" cy="1203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055E-BCEF-43E6-9D7A-09F129DD88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1547640" y="423000"/>
            <a:ext cx="72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Давать деньги можно, если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… 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Calibri"/>
                <a:ea typeface="Times New Roman"/>
              </a:rPr>
              <a:t>… он 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понимает</a:t>
            </a:r>
            <a:r>
              <a:rPr b="0" lang="ru-RU" sz="3600" spc="-1" strike="noStrike">
                <a:solidFill>
                  <a:srgbClr val="333333"/>
                </a:solidFill>
                <a:latin typeface="Calibri"/>
                <a:ea typeface="Times New Roman"/>
              </a:rPr>
              <a:t>, что они нелегко достались отцу и матери, бабушкам и дедушкам. В семьях, где их старшие члены рассказывают младшим о своей работе, о проблемах труда, те могут проявить должное понимание уже в 1 класс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9471-04BA-4F0C-B2DF-2D290875BA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476360" y="333360"/>
            <a:ext cx="705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Давать деньги можно, если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…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Calibri"/>
                <a:ea typeface="Times New Roman"/>
              </a:rPr>
              <a:t>… </a:t>
            </a:r>
            <a:r>
              <a:rPr b="0" lang="ru-RU" sz="3600" spc="-1" strike="noStrike">
                <a:solidFill>
                  <a:srgbClr val="333333"/>
                </a:solidFill>
                <a:latin typeface="Calibri"/>
                <a:ea typeface="Times New Roman"/>
              </a:rPr>
              <a:t>он 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знает</a:t>
            </a:r>
            <a:r>
              <a:rPr b="0" lang="ru-RU" sz="3600" spc="-1" strike="noStrike">
                <a:solidFill>
                  <a:srgbClr val="333333"/>
                </a:solidFill>
                <a:latin typeface="Calibri"/>
                <a:ea typeface="Times New Roman"/>
              </a:rPr>
              <a:t>, зачем ему нужны деньги, и может довольно внятно ответить, на что их израсходует. Будет ли он ежедневно покупать себе жвачку, лакомство или откладывать рубли в копилку, главное – чтобы траты были продуманными и целесообразными.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0963-5671-487E-8100-DFF330E35C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1143000" y="876600"/>
            <a:ext cx="7715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Да, так уж устроено у людей,</a:t>
            </a:r>
            <a:r>
              <a:rPr b="1" i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Хотите вы этого, не хотите ли,</a:t>
            </a:r>
            <a:r>
              <a:rPr b="1" i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Но только родители любят детей</a:t>
            </a:r>
            <a:br>
              <a:rPr sz="2800"/>
            </a:b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Чуть больше, чем дети роди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Ведь им не всегда щебетать на ветках</a:t>
            </a:r>
            <a:br>
              <a:rPr sz="2800"/>
            </a:b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Когда-то и им малышей растить,</a:t>
            </a:r>
            <a:br>
              <a:rPr sz="2800"/>
            </a:b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Все перечувствовать и пережить,</a:t>
            </a:r>
            <a:br>
              <a:rPr sz="2800"/>
            </a:b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И побывать в </a:t>
            </a:r>
            <a:r>
              <a:rPr b="1" i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стариках</a:t>
            </a:r>
            <a:r>
              <a:rPr b="1" i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»</a:t>
            </a: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предках</a:t>
            </a: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C19A-85B2-480D-851B-3F504CEAFC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619280" y="260280"/>
            <a:ext cx="727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Давать деньги можно, если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Calibri"/>
                <a:ea typeface="Times New Roman"/>
              </a:rPr>
              <a:t>… </a:t>
            </a:r>
            <a:r>
              <a:rPr b="0" lang="ru-RU" sz="4000" spc="-1" strike="noStrike">
                <a:solidFill>
                  <a:srgbClr val="333333"/>
                </a:solidFill>
                <a:latin typeface="Calibri"/>
                <a:ea typeface="Times New Roman"/>
              </a:rPr>
              <a:t>он 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умеет</a:t>
            </a:r>
            <a:r>
              <a:rPr b="0" lang="ru-RU" sz="4000" spc="-1" strike="noStrike">
                <a:solidFill>
                  <a:srgbClr val="333333"/>
                </a:solidFill>
                <a:latin typeface="Calibri"/>
                <a:ea typeface="Times New Roman"/>
              </a:rPr>
              <a:t> приобретать нужное в торговых точках. Проверьте это практически: пусть делает небольшие покупки для дома, рассчитывая полученную сумму так, чтобы её хватило на то, что нужно купи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1099-9A54-4EFC-AFB6-ADF90CEF61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258920" y="123840"/>
            <a:ext cx="7885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Ребёнок не дорос до карманных денег, если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н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бо представляет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где и как трудятся родители, что такое зарплата и откуда она берется. Причём такая наивность присуща, бывает, не только деткам обеспеченных родителей, но и ребятишкам тех мам и пап, которые имеют крайне низкие и тяжко достающиеся доходы, но стараются скрывать это от окружающих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F364-9DCA-4A02-9EAB-C773E190E8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258920" y="169560"/>
            <a:ext cx="788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Ребёнок не дорос до карманных денег, если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 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е умеет отказыватьс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от мелких желаний ради «высокой цели». Ему не по душе ограничивать себя в своих прихотях, он отказывается копить деньги на какую-то крупную покупк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9F07-CC60-4320-AEF3-5B9E76BF46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1258920" y="549360"/>
            <a:ext cx="7885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Ребёнок не дорос до карманных денег, если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н 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не управляе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Если он скверно ведёт себя, не держит данного им слова, любит приврать, выделяемые деньги сослужат ему плохую служб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шать ли карманных денег за проступ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первый взгляд, было бы естественно прекращать выдачу карманных денег, если ребенок плохо себя ведет и должен быть наказа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ностью лишать виновника денег, возможно, не лучшее решени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ть вероятность того, что ребенок просто разозлится на вас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 может начать брать деньги в долг у одноклассников или попробует стащи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ньги из вашего кошель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j0336733"/>
          <p:cNvPicPr/>
          <p:nvPr/>
        </p:nvPicPr>
        <p:blipFill>
          <a:blip r:embed="rId2"/>
          <a:stretch/>
        </p:blipFill>
        <p:spPr>
          <a:xfrm>
            <a:off x="7524720" y="4076640"/>
            <a:ext cx="1295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оит  ли поощрят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тей деньг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26920" y="1557360"/>
            <a:ext cx="7994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Заранее и четко обговорите, сколько денег и за что вы готовы дать ребенку, чтобы он не чувствовал себя обмануты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Не торгуйтесь и не хитрит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Денежное поощрение обязательно должно сопровождаться похвалой родителе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Не платите ребенку за то, чтобы он чего-то не дела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Если вы даете ребенку деньги, не диктуйте, на что их тратить, но ненавязчиво советуйте, как разумно ими распорядиться. И не расстраивайтесь, если ребенок не всегда к вам прислушиваетс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j0336733"/>
          <p:cNvPicPr/>
          <p:nvPr/>
        </p:nvPicPr>
        <p:blipFill>
          <a:blip r:embed="rId2"/>
          <a:stretch/>
        </p:blipFill>
        <p:spPr>
          <a:xfrm>
            <a:off x="7236000" y="4869000"/>
            <a:ext cx="1296720" cy="1763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3A23-7396-4E0C-9E1A-F9A21A177A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500120" y="28800"/>
            <a:ext cx="7643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  <a:ea typeface="Times New Roman"/>
              </a:rPr>
              <a:t>Итак, вы набрали: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Georgia"/>
                <a:ea typeface="Times New Roman"/>
              </a:rPr>
              <a:t>От 12 до 18 очков.</a:t>
            </a:r>
            <a:r>
              <a:rPr b="0" lang="ru-RU" sz="36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Georgia"/>
                <a:ea typeface="Times New Roman"/>
              </a:rPr>
              <a:t>Осторожней! Вы вконец забаловали свое дитя! Не стоит так часто покупать ему то, что он хочет, а уж тем более позволять ему обсуждать ваши личные покупки. Он не смеет в это влезать, и обсуждать с ним правомерность покупок совершенно ни к че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9412-32D7-48E0-9DB7-0C44CAE88C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500120" y="87624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От 6 до 12 очков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олотая середина. Вроде все по делу, ваш ребенок не избалован, но и не заброшен вниманием и заботой. Продолжай в том же дух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82D7-646B-478E-9E6A-BDB14DF357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500120" y="31320"/>
            <a:ext cx="7643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 1до 6 оч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Ну, вы перебарщиваете! Строгость строгостью, но держать ребенка в «черном теле» не нужно. Он может возненавидеть вас, заработать кучу комплексов, да просто вырасти очень жадным и злым человеком. Помните, что доброта и ласка, проявленные в том числе и в подарках, - прекрасный воспитательный прием. Нужно только следить за тем, чтобы этот приём применялся воврем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19280" y="764640"/>
            <a:ext cx="734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ьги для детей - хорошее учебное пособие перед взрослой жизн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мение обращаться с деньгам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совершенн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обый навы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ый, к счастью, успешн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дается трениров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манные деньги - лучший тренажер финансовой самостоя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аших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j0295450"/>
          <p:cNvPicPr/>
          <p:nvPr/>
        </p:nvPicPr>
        <p:blipFill>
          <a:blip r:embed="rId2"/>
          <a:stretch/>
        </p:blipFill>
        <p:spPr>
          <a:xfrm>
            <a:off x="0" y="4221000"/>
            <a:ext cx="2092320" cy="239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15640" y="475920"/>
            <a:ext cx="73422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рабо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имеет право высказаться по теме разговора и быть услыша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ас нет зрителей, работают вс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хорошие друзья, воспитанные люди, умеем хранить свои секреты, не сплетнича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верьтесь мне как другу и поверьте мне как специалис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частье не в деньгах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42560" y="1196640"/>
            <a:ext cx="7777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ньги для детей - хорошее учебное пособие перед взрослой жизнью. Но не стоит переоценивать влияние финансового благополучия на общую удовлетворенность жизнью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Что же нужно детям для счастья? Банально и просто - любящая семья с братьями и сестр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от говорить детям: "Зачем давать тебе больше денег, если ты от этого не станешь счастливее?" не следу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j0336733"/>
          <p:cNvPicPr/>
          <p:nvPr/>
        </p:nvPicPr>
        <p:blipFill>
          <a:blip r:embed="rId2"/>
          <a:stretch/>
        </p:blipFill>
        <p:spPr>
          <a:xfrm>
            <a:off x="7236000" y="4797360"/>
            <a:ext cx="1295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A19F-B253-4CA3-B767-413F4E0CD9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785880" y="946800"/>
            <a:ext cx="8358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2"/>
                </a:solidFill>
                <a:latin typeface="Calibri"/>
                <a:ea typeface="Times New Roman"/>
              </a:rPr>
              <a:t>Мы пред будущим в ответе:</a:t>
            </a:r>
            <a:br>
              <a:rPr sz="4800"/>
            </a:br>
            <a:r>
              <a:rPr b="1" i="1" lang="ru-RU" sz="4800" spc="-1" strike="noStrike">
                <a:solidFill>
                  <a:srgbClr val="004c22"/>
                </a:solidFill>
                <a:latin typeface="Calibri"/>
                <a:ea typeface="Times New Roman"/>
              </a:rPr>
              <a:t>Наша радость, боль и грусть,</a:t>
            </a:r>
            <a:br>
              <a:rPr sz="4800"/>
            </a:br>
            <a:r>
              <a:rPr b="1" i="1" lang="ru-RU" sz="4800" spc="-1" strike="noStrike">
                <a:solidFill>
                  <a:srgbClr val="004c22"/>
                </a:solidFill>
                <a:latin typeface="Calibri"/>
                <a:ea typeface="Times New Roman"/>
              </a:rPr>
              <a:t>Наше будущее – дети…</a:t>
            </a:r>
            <a:br>
              <a:rPr sz="4800"/>
            </a:br>
            <a:r>
              <a:rPr b="1" i="1" lang="ru-RU" sz="4800" spc="-1" strike="noStrike">
                <a:solidFill>
                  <a:srgbClr val="004c22"/>
                </a:solidFill>
                <a:latin typeface="Calibri"/>
                <a:ea typeface="Times New Roman"/>
              </a:rPr>
              <a:t>Трудно с ними, ну и пусть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3E16-CE50-4534-A5AD-EFB4760459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1258920" y="272880"/>
            <a:ext cx="7885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сихологическая разми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Очень я собой горжусь!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ень я собой горжусь, я на многое гожусь!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решаю любые задачи, со мною всегда ЛЮБОВЬ и УДАЧ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приманиваю удачу, с каждым днем становлюсь богач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согрета солнечным лучиком, я достойна самого лучше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ути у меня нет преграды, все получится так, как над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ой и улыбку всегда берегу, и мне все помогут, и я помог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туация любая мне  подвластна, мир прекрасен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я прекрас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бодра и энергична, и дела идут отлич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ленная мне улыбается, и все у меня получает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692360" y="907920"/>
            <a:ext cx="617544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2400" spc="1" strike="noStrike">
              <a:ln w="0">
                <a:noFill/>
              </a:ln>
              <a:solidFill>
                <a:srgbClr val="c0504d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1403280" y="4292640"/>
            <a:ext cx="691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4f81b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пехов Вам и Вашим детям!</a:t>
            </a:r>
            <a:endParaRPr b="0" lang="en-US" sz="2400" spc="1" strike="noStrike">
              <a:ln w="12600">
                <a:solidFill>
                  <a:srgbClr val="800080"/>
                </a:solidFill>
                <a:miter/>
              </a:ln>
              <a:solidFill>
                <a:srgbClr val="4f81bd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8" descr="bd06992_"/>
          <p:cNvPicPr/>
          <p:nvPr/>
        </p:nvPicPr>
        <p:blipFill>
          <a:blip r:embed="rId2"/>
          <a:stretch/>
        </p:blipFill>
        <p:spPr>
          <a:xfrm>
            <a:off x="3400560" y="2478240"/>
            <a:ext cx="137160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000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c22"/>
                </a:solidFill>
                <a:latin typeface="Calibri"/>
              </a:rPr>
              <a:t>Родительское собр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Mistral"/>
              </a:rPr>
              <a:t> </a:t>
            </a:r>
            <a:r>
              <a:rPr b="1" lang="ru-RU" sz="8800" spc="-1" strike="noStrike">
                <a:solidFill>
                  <a:srgbClr val="c00000"/>
                </a:solidFill>
                <a:latin typeface="Mistral"/>
              </a:rPr>
              <a:t>«Дети и деньги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A7A6-DB90-4F7B-89E2-74A2000474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86920" y="764640"/>
            <a:ext cx="72709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ногие родители считают неправильным обсуждать с детьми финансовые вопросы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 как считаете в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j0357055"/>
          <p:cNvPicPr/>
          <p:nvPr/>
        </p:nvPicPr>
        <p:blipFill>
          <a:blip r:embed="rId2"/>
          <a:stretch/>
        </p:blipFill>
        <p:spPr>
          <a:xfrm>
            <a:off x="5796000" y="4869000"/>
            <a:ext cx="280836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ая задача родителе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Воспитать у ребенка правильное отношение к деньгам и материальным ценностя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j0284139"/>
          <p:cNvPicPr/>
          <p:nvPr/>
        </p:nvPicPr>
        <p:blipFill>
          <a:blip r:embed="rId2"/>
          <a:stretch/>
        </p:blipFill>
        <p:spPr>
          <a:xfrm>
            <a:off x="6443640" y="4221000"/>
            <a:ext cx="1835280" cy="1482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Капитал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юного магна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16000" y="256500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. Деньги подарен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. Деньги карман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. Деньги заработанны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j0336733"/>
          <p:cNvPicPr/>
          <p:nvPr/>
        </p:nvPicPr>
        <p:blipFill>
          <a:blip r:embed="rId2"/>
          <a:stretch/>
        </p:blipFill>
        <p:spPr>
          <a:xfrm>
            <a:off x="6875640" y="4941720"/>
            <a:ext cx="1441440" cy="166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906-544E-48DF-B233-D52F59672A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2"/>
          <a:stretch/>
        </p:blipFill>
        <p:spPr>
          <a:xfrm>
            <a:off x="1170000" y="158760"/>
            <a:ext cx="7851600" cy="14572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1714680" y="2274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верьте себя! Как в вашей семье обстоит дело с обсуждаемой проблемой? Для ответа на этот вопрос поможет маленький психологический тес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48BA-7756-4BBB-9843-1201EE2022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1500120" y="979560"/>
            <a:ext cx="7143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lnSpc>
                <a:spcPct val="100000"/>
              </a:lnSpc>
              <a:buClr>
                <a:srgbClr val="c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Times New Roman"/>
              </a:rPr>
              <a:t>Если ребёнок просит меня купить что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Times New Roman"/>
              </a:rPr>
              <a:t> то недорогое, я покупаю: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Georgia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Всегда </a:t>
            </a:r>
            <a:r>
              <a:rPr b="0" lang="ru-RU" sz="40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 3.</a:t>
            </a:r>
            <a:br>
              <a:rPr sz="4000"/>
            </a:br>
            <a:r>
              <a:rPr b="0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Иногда </a:t>
            </a:r>
            <a:r>
              <a:rPr b="0" lang="ru-RU" sz="40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 2.</a:t>
            </a:r>
            <a:br>
              <a:rPr sz="4000"/>
            </a:br>
            <a:r>
              <a:rPr b="0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Только если он этого заслуживает </a:t>
            </a:r>
            <a:r>
              <a:rPr b="0" lang="ru-RU" sz="40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>ЧЕРНОВ АЛЕКСЕЙ</dc:creator>
  <dc:description/>
  <dc:language>en-US</dc:language>
  <cp:lastModifiedBy>User</cp:lastModifiedBy>
  <dcterms:modified xsi:type="dcterms:W3CDTF">2014-03-31T06:43:13Z</dcterms:modified>
  <cp:revision>66</cp:revision>
  <dc:subject/>
  <dc:title>Заголовок слайда отсутствует</dc:title>
</cp:coreProperties>
</file>