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8FB-9398-4831-AA87-15DD67AF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800-6E82-40ED-BF1D-852F385C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B36-9374-4969-BD02-7D070506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878-34F2-43C1-B9D0-B447C06A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C302-A211-44FB-B725-FCDF8E2E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BB2F-AE7F-407B-8004-3076B1F9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8ED2-CC87-4196-ACDC-57523A4D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CF0F-5E9C-4BDE-82AB-3E9F76B8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7097-B99D-4403-AAF5-ADA71CD4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F1FB-1E64-43AB-9BCE-B00C43C6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8531-13BA-47AE-897F-164E16E8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9BB-8E56-409F-B64D-38A89C7B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642B-2DEC-488D-A9BC-EA44FD2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758F-DEA2-4E3F-9D31-C3F34E4F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2D42-3490-486E-9505-D5D8A7E1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293F-E093-4E27-B8D0-2E1ED00D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2D31-1267-4788-BAF5-C0F239DF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F9BE-B50B-4708-8E98-C6E8E99C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4CE56-49E8-40C8-8ED0-E5CF6E14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6672-A111-4F38-A509-690E94CC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9E25-9D16-4AC2-A240-CF67ADF3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6C6B-C564-4DC1-825B-A41DBABC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CEA-2688-4A5A-B66A-0023544D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ABD4-7359-41AD-81B6-14497C15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9898-A21E-47F7-BA6B-0D3CF66B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43590-37FD-4DDD-A429-7669F7A6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FC0F-67C2-40EA-9E5E-7BCF0DFC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C688-E41F-4C65-AE81-F432FC7A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0B1F-5AF4-41C9-917A-19B029E7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7E038-6213-4AA8-A573-A1CA0481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67B6-9A69-4F1F-95F8-D82A2C66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E4F-83B2-49FE-8035-9F9B32BD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3C2-3308-4638-88D7-F97B8126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2D4-FE2C-42EC-9EFE-E49E1AA0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6C3-6D69-4CB4-82DA-07CBDE43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2A7-9AE3-4337-BB37-6F3831A0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8418-56AA-410E-BB37-EBAD99E8E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BC0B-734A-4910-A4EE-0C73DB17D32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BDC6-7CB8-4680-BA2B-8EB13E59C1B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ем опасна ненормативная лекс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«С языком, с человеческим словом, с речью безнаказанно шутить нельз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словесная речь человека – это невидимая, осязаемая связь, союзное звено между телом и духом»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ладимир Д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324000" y="189000"/>
            <a:ext cx="864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 наше слово отзовётся?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435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8. «Негодяй» означа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) Недоверчив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) Рекрута, непригодного к воинской служб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) Человека, неспособного к  тяжелому физическому тру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1" descr="69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9. «Извергам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гда-то называл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Слишком говорлив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Древнерусских фермеров, то есть тех, кто покидал общину ради частного землепаш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Детей, подвергнутых публичной по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Изображение 884"/>
          <p:cNvPicPr/>
          <p:nvPr/>
        </p:nvPicPr>
        <p:blipFill>
          <a:blip r:embed="rId1"/>
          <a:stretch/>
        </p:blipFill>
        <p:spPr>
          <a:xfrm>
            <a:off x="5867280" y="0"/>
            <a:ext cx="2806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Жителям китайского города Шанхай законодательно запрещено публично проклинать друг друга. Сквернословить нельзя не только потому, что это само по себе не вызывает приятных эмоц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но и потому, что именно с брани начинаются многие дра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468360" y="476280"/>
            <a:ext cx="8424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тересно, что…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6" descr="AG00385_"/>
          <p:cNvPicPr/>
          <p:nvPr/>
        </p:nvPicPr>
        <p:blipFill>
          <a:blip r:embed="rId1"/>
          <a:stretch/>
        </p:blipFill>
        <p:spPr>
          <a:xfrm>
            <a:off x="6948360" y="3429000"/>
            <a:ext cx="1917720" cy="1511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AG00036_"/>
          <p:cNvPicPr/>
          <p:nvPr/>
        </p:nvPicPr>
        <p:blipFill>
          <a:blip r:embed="rId2"/>
          <a:stretch/>
        </p:blipFill>
        <p:spPr>
          <a:xfrm>
            <a:off x="7020000" y="4869000"/>
            <a:ext cx="21240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, русской речи ширь и краткос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Мне близок строй её и мил,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Моя опора, гордость, радос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кно в необозримый мир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В ней нежность песни, мощь оружья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Размах – и точность без затей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Друзья мои, учите русский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        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Учите русскому детей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абир Абдул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3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7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1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5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9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3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000"/>
                            </p:stCondLst>
                            <p:childTnLst>
                              <p:par>
                                <p:cTn id="49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7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1" dur="1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85920" y="387000"/>
            <a:ext cx="6929280" cy="60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Литератур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Газета «Моя семья», №39, октябрь 2006 год,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тья «Происхождение русских ругательств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Стихи поэта Сабира Абдулл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Журнал «Управление начальной школой», №4, 2009 год статья «Для чего нужен сленг?»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Презентация подготовлена учителем начальных классов МОУ СОШ № 2 им. А.С.Пушки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Делавиной Ольгой Викторовн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Многие  слова в далёкие времена имели совершенно иной смысл, попробуем и мы с вами окунуться в мир слов и выражений, придуманных мудрым русским народо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324000" y="260280"/>
            <a:ext cx="8569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Интеллектуальная игр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«Поле брани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Халтуро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ньше именова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Выездную работу священника – отпевание усопшего на дому, а не в церкв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Награду в виде медали из дешевой м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Проверку документов при въезде в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AG00625_"/>
          <p:cNvPicPr/>
          <p:nvPr/>
        </p:nvPicPr>
        <p:blipFill>
          <a:blip r:embed="rId1"/>
          <a:stretch/>
        </p:blipFill>
        <p:spPr>
          <a:xfrm>
            <a:off x="5286240" y="357120"/>
            <a:ext cx="345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. «Сволочь»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Сборщик налогов в Киевской 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Профессия бурлаков, «сволакивающих» идущие суда через водные препят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Поселения на границе двух вол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CALVIN3"/>
          <p:cNvPicPr/>
          <p:nvPr/>
        </p:nvPicPr>
        <p:blipFill>
          <a:blip r:embed="rId1"/>
          <a:stretch/>
        </p:blipFill>
        <p:spPr>
          <a:xfrm>
            <a:off x="4716360" y="404640"/>
            <a:ext cx="33130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0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. Слово «Зараз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прошлом означал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Преле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Девушку, которая заразительно смеё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Некрасивую девуш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BABY6"/>
          <p:cNvPicPr/>
          <p:nvPr/>
        </p:nvPicPr>
        <p:blipFill>
          <a:blip r:embed="rId1"/>
          <a:stretch/>
        </p:blipFill>
        <p:spPr>
          <a:xfrm>
            <a:off x="5076720" y="115920"/>
            <a:ext cx="3456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4. «Болван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древнерусском означает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Бескорыс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Вдов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Массивная глыба, ск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SMURF2"/>
          <p:cNvPicPr/>
          <p:nvPr/>
        </p:nvPicPr>
        <p:blipFill>
          <a:blip r:embed="rId1"/>
          <a:stretch/>
        </p:blipFill>
        <p:spPr>
          <a:xfrm>
            <a:off x="4788000" y="1341360"/>
            <a:ext cx="3744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0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. «Олухом» называл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) Пастух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) Коню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)  Старосту дерев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J0076190"/>
          <p:cNvPicPr/>
          <p:nvPr/>
        </p:nvPicPr>
        <p:blipFill>
          <a:blip r:embed="rId1"/>
          <a:stretch/>
        </p:blipFill>
        <p:spPr>
          <a:xfrm>
            <a:off x="4284720" y="692280"/>
            <a:ext cx="3887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. «Девушками лег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дения ра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зывали тех юных д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торы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Учились французскому язы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Заканчивали гимназию с плохими отме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Не вышли замуж до 2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AG00314_"/>
          <p:cNvPicPr/>
          <p:nvPr/>
        </p:nvPicPr>
        <p:blipFill>
          <a:blip r:embed="rId1"/>
          <a:stretch/>
        </p:blipFill>
        <p:spPr>
          <a:xfrm>
            <a:off x="5867280" y="189000"/>
            <a:ext cx="2521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075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7. «Идиотом» в пере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 греческого ра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зывал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Человека, умеющего пис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Частное лиц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Человека, отказывающегося продолжать дело своего от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AG00317_"/>
          <p:cNvPicPr/>
          <p:nvPr/>
        </p:nvPicPr>
        <p:blipFill>
          <a:blip r:embed="rId1"/>
          <a:stretch/>
        </p:blipFill>
        <p:spPr>
          <a:xfrm>
            <a:off x="6407280" y="-387360"/>
            <a:ext cx="2736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5:50:33Z</dcterms:created>
  <dc:creator>Teacher</dc:creator>
  <dc:description/>
  <dc:language>en-US</dc:language>
  <cp:lastModifiedBy>Саша</cp:lastModifiedBy>
  <dcterms:modified xsi:type="dcterms:W3CDTF">2010-12-15T15:37:44Z</dcterms:modified>
  <cp:revision>19</cp:revision>
  <dc:subject/>
  <dc:title>Слайд 1</dc:title>
</cp:coreProperties>
</file>